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8739-9AD3-4B5E-B948-5CDFC9E54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tweak the standard definition of ‘regulates’ to be occurrent-based instead of process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have been reviewed, can be implemente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have been reviewed, can be implemente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ome relationship (currently undefined) between ‘transcription regulator activity’  and ‘regulation of transcriptio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4B4-69FF-45E0-A409-C00DFAD2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7EC-B13E-46F4-A47B-BBF31F85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030-00E9-415D-86ED-6CED5E61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025-07E6-4019-95DF-783DF117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B8C-470B-4F3A-B9A9-56714990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6B8-058C-47FF-8432-8DF06841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A80-25C7-4C1E-B9EA-3E4FCEC0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39B-D4F8-4A6F-9E34-B6E1EBAC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CB8-7E51-417B-B5A0-DAAAFBF5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A49-D3DA-4A9C-9335-E9A0E7B8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02D-2783-4AD0-8B5A-EB4886C7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971-408B-4FAF-A066-8DECAF4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E82B-6D2A-4248-AB64-391288537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‘regulates’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, David, Ta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102120" cy="1219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4362480" cy="361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l Trans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8040" y="225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ascade of processes by which a signal interacts with a receptor, causing a change in the level or activity of a second messenger or other downstream target, and </a:t>
            </a:r>
            <a:r>
              <a:rPr b="0" lang="en-US" sz="1700" spc="-1" strike="noStrike">
                <a:solidFill>
                  <a:srgbClr val="00ff00"/>
                </a:solidFill>
                <a:latin typeface="Arial"/>
              </a:rPr>
              <a:t>ultimately effecting a change in the functioning of the cel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648320" cy="4046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441043" r="0" b="0"/>
          <a:stretch/>
        </p:blipFill>
        <p:spPr>
          <a:xfrm>
            <a:off x="380880" y="2268360"/>
            <a:ext cx="3581640" cy="3446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4114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2957" r="0" b="0"/>
          <a:stretch/>
        </p:blipFill>
        <p:spPr>
          <a:xfrm>
            <a:off x="5173560" y="1523880"/>
            <a:ext cx="2522520" cy="4997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9625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2957" r="0" b="0"/>
          <a:stretch/>
        </p:blipFill>
        <p:spPr>
          <a:xfrm>
            <a:off x="76320" y="1447920"/>
            <a:ext cx="2522520" cy="4997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rcRect l="9328" t="4579" r="517" b="0"/>
          <a:stretch/>
        </p:blipFill>
        <p:spPr>
          <a:xfrm>
            <a:off x="3429000" y="2590920"/>
            <a:ext cx="5638680" cy="2701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function to 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relationship between enzyme regulators and the enzyme activities themse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change MF ontology from being a strict is_a hierarc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or activity (66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or activity (60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ibitor activity (90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Fun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59280" y="2259000"/>
            <a:ext cx="3071880" cy="328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-ontology Links BP-&gt;M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32440" y="1600200"/>
            <a:ext cx="3730680" cy="51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-ontology Links MF-&gt;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84720" y="2427120"/>
            <a:ext cx="3957480" cy="290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0240" y="5410080"/>
            <a:ext cx="77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functions that always occur in a single type of biological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 part of that biological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Biological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products execute molecula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s of functions can be regulatory (ex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ase inhibitor 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can take part in regulatory biological processes (ex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F b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eptor 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Beginning, There Were Two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Were Also  ‘Regulation’ Ter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934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de the ‘regulation of X’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X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438800" cy="20192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952880" y="3809880"/>
            <a:ext cx="137160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791320" y="449532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5760" y="579132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it’s not real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ot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 of X =  “Any process that modulates the frequency, rate or extent of X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can regulate X without being an integral part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ed ‘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regu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40384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kinds types of regulation were described by the original regulation terms in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biolog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- and Inter-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638680" cy="2311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7320" y="1523880"/>
            <a:ext cx="898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rents can regulate oc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rent = biological process OR (execution of a) molecular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require any additional relationship types (like has_part, for in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441043" r="0" b="0"/>
          <a:stretch/>
        </p:blipFill>
        <p:spPr>
          <a:xfrm>
            <a:off x="380880" y="2268360"/>
            <a:ext cx="3581640" cy="3446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8480" y="4114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0" t="2957" r="0" b="0"/>
          <a:stretch/>
        </p:blipFill>
        <p:spPr>
          <a:xfrm>
            <a:off x="5173560" y="1523880"/>
            <a:ext cx="2522520" cy="4997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6:51:35Z</dcterms:created>
  <dc:creator>Tanya Berardini</dc:creator>
  <dc:description/>
  <dc:language>en-US</dc:language>
  <cp:lastModifiedBy>Iry Witham</cp:lastModifiedBy>
  <dcterms:modified xsi:type="dcterms:W3CDTF">2008-05-19T17:17:15Z</dcterms:modified>
  <cp:revision>9</cp:revision>
  <dc:subject/>
  <dc:title>The ‘regulates’ relationships</dc:title>
</cp:coreProperties>
</file>